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A0C4-A7AA-42EF-84D7-D4E8484F5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3F7A-C828-451A-9CBC-2685FBF17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6403-F1B1-4BB5-95ED-549FF6812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C49E-2514-43F9-9669-6F2C87055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F081-BF1E-49BB-A03A-BE6FF58F3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67D2-3517-4642-AF5B-CBF6AB911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BEC7-4FB1-464B-B866-5898B2E30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8206-0004-4776-9CF3-6AF126D7B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7CD6-85C0-45C8-B58C-081E3A6D3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E67B-408E-4EF4-97C0-7D953228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CE50-CC02-4CFA-9788-DCD58E373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43CB-E74A-4BDB-A6AB-FD405FEA1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F71E-A146-4225-900E-F5EC8918B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EAD4-9C7E-4702-8B97-4461A16A8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0B44-69B9-4F49-A0DC-1C31B2B36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1D38-ADBB-49BE-AAD9-FADBFA012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D80F-9D3A-4D36-B6AF-FAFBEA868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ECAC-62FF-4EB2-88BE-D42BB2641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FF8D-1423-4A59-99E1-1B36DED08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399F-9263-4332-8561-DB40A5B72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F0E3-C1AA-4D33-B368-7C6EC153D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5E4E-AEED-43B9-A4B0-FC71A6FF2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97F9-F54B-4539-A5CF-6BAEF2CD3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27E5-A3A4-4EDB-87D9-27339BD0A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178-1953-4912-B56A-52380A6F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D6A-852C-4E71-9784-37989652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6BB-4AAF-4D88-9F2A-4D28FD0F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D08-904F-4FFE-9ED4-8E24AD03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88D-6B07-432F-9130-09CCCF26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F23-60DC-4A8F-8F54-A55F0157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2ED-880C-4522-95A6-BAC19544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4FA-D7F0-435A-90FD-6849772F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C7A-0DB4-44E5-8396-D86D57C1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B9A-C067-4D84-8B88-24B73474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981-7413-44D4-85D7-8CAF1076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684-DA9F-4069-A92C-7851C74F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283F-1CA6-4F92-A229-251DC8C95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which two cataracts on the Nile was Napata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: It’s not o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year were the Napatan kings forced ou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645  B: about 6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last year  D: about 7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5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apata a Nubian capital before or after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efo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n Women held a very high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4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ens of Nubia had very powerful figures i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ancient artwork B: the Nubian g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eyes of priests D: anci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AutoShape 4"/>
          <p:cNvGrpSpPr/>
          <p:nvPr/>
        </p:nvGrpSpPr>
        <p:grpSpPr>
          <a:xfrm>
            <a:off x="7162920" y="304920"/>
            <a:ext cx="1311120" cy="853920"/>
            <a:chOff x="7162920" y="304920"/>
            <a:chExt cx="1311120" cy="853920"/>
          </a:xfrm>
        </p:grpSpPr>
        <p:pic>
          <p:nvPicPr>
            <p:cNvPr id="15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30492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169400" y="31140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 had many more women as rulers when compared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r. Domyan B: Morgan’s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Egypt  D: Me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59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oyalty, who was most often next in line for the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iss Snow B: children of the ruler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ruler’s children D: Commo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65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Nubian queens’ weight reflect their wealth and 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f they were heavy then they had a lot of money to fee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It didn’t  C: They could wear plus size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All women were plump at that time; queens had to have be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71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Hieroglyphics remain an unsolved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7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0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09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1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.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21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27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8580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iron ore deposits benefit the people of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y could make tools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y made ores for their 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 didn’t benefit them  D: they made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people could control trade routes to ____________ with their weap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local Walmart           B: the 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Mediterranean Sea  D: their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bian styles of pottery, jewelry, and furniture still exist in present-da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anada    B: Su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aly          D: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2719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676520"/>
            <a:ext cx="85345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did the Napatan kings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Egypt B: 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Africa D: The Land of Gwyneth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Napata did not follow Egyptian tra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Morgan</cp:lastModifiedBy>
  <dcterms:modified xsi:type="dcterms:W3CDTF">2009-01-15T23:08:19Z</dcterms:modified>
  <cp:revision>17</cp:revision>
  <dc:subject/>
  <dc:title>Slide 1</dc:title>
</cp:coreProperties>
</file>